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C65F3-AA8D-47DD-8C4F-D4983B0C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8564-92F6-44A3-B79E-08ED3174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F790-701E-468B-A21A-BC7E9683D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5916E-E8AE-4A16-A4DF-12BF41B42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C87F-5958-4A72-94DB-DA3C246A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89DB-BEBD-4421-9274-EFD22602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E8494-5E11-4CEC-B07B-F933BA0C0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9CE1-42DD-4F43-9F16-17F3F936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A9BB-D775-4B5A-AFE4-535B718E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E3A8-63EF-4768-8615-AA52BD8D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2113-FBD0-422E-AD05-8CF7EC53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E3514-2FC8-4C25-B6A7-C603A0FC0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6856-C7F9-406D-B4D9-0C5B9F28AAF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43280" y="3141720"/>
            <a:ext cx="3429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5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9-27T10:14:12Z</dcterms:modified>
  <cp:revision>39</cp:revision>
  <dc:subject/>
  <dc:title>SALARIUL</dc:title>
</cp:coreProperties>
</file>